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293-122C-4EFC-8B0A-2F276276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A3E-2B20-4D35-9B52-5B32B838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21C-D4C2-48F1-AD72-396DA4A0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19E-2714-412B-846B-C890151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695-A25C-4989-9D64-B304C04F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A4C-6FC0-4218-9DA2-085FAD48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993-4A85-4670-BBEE-F376B4C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8E9-4DA6-431C-80B1-0CC882AD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7BE-A9B8-4F98-9C29-48AD884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4E0-D7F7-4DA5-A714-45F5A2F1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2F3-BB46-423D-BB33-63E0FF6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E4B-9474-4C30-A82E-E1DDBC8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E9B7-D431-4C2A-9882-33EAC24ED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71484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71484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72120" y="307188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500120" y="3286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6072120" y="31431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3643200" y="37148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3643200" y="21430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20"/>
          <p:cNvCxnSpPr/>
          <p:nvPr/>
        </p:nvCxnSpPr>
        <p:spPr>
          <a:xfrm flipH="1">
            <a:off x="2856960" y="2786040"/>
            <a:ext cx="6433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22"/>
          <p:cNvCxnSpPr/>
          <p:nvPr/>
        </p:nvCxnSpPr>
        <p:spPr>
          <a:xfrm flipH="1" flipV="1">
            <a:off x="2786040" y="4285800"/>
            <a:ext cx="643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4"/>
          <p:cNvCxnSpPr/>
          <p:nvPr/>
        </p:nvCxnSpPr>
        <p:spPr>
          <a:xfrm flipH="1" flipV="1">
            <a:off x="5071320" y="378540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26"/>
          <p:cNvCxnSpPr/>
          <p:nvPr/>
        </p:nvCxnSpPr>
        <p:spPr>
          <a:xfrm>
            <a:off x="2785680" y="3714840"/>
            <a:ext cx="500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Multiply 31"/>
          <p:cNvSpPr/>
          <p:nvPr/>
        </p:nvSpPr>
        <p:spPr>
          <a:xfrm>
            <a:off x="2928960" y="3571920"/>
            <a:ext cx="214200" cy="285840"/>
          </a:xfrm>
          <a:custGeom>
            <a:avLst/>
            <a:gdLst>
              <a:gd name="textAreaLeft" fmla="*/ 31320 w 214200"/>
              <a:gd name="textAreaRight" fmla="*/ 182880 w 214200"/>
              <a:gd name="textAreaTop" fmla="*/ 53280 h 285840"/>
              <a:gd name="textAreaBottom" fmla="*/ 232560 h 285840"/>
            </a:gdLst>
            <a:ahLst/>
            <a:rect l="textAreaLeft" t="textAreaTop" r="textAreaRight" b="textAreaBottom"/>
            <a:pathLst>
              <a:path w="214314" h="285752">
                <a:moveTo>
                  <a:pt x="31310" y="83752"/>
                </a:moveTo>
                <a:lnTo>
                  <a:pt x="71636" y="53508"/>
                </a:lnTo>
                <a:lnTo>
                  <a:pt x="107157" y="100870"/>
                </a:lnTo>
                <a:lnTo>
                  <a:pt x="142678" y="53508"/>
                </a:lnTo>
                <a:lnTo>
                  <a:pt x="183004" y="83752"/>
                </a:lnTo>
                <a:lnTo>
                  <a:pt x="138661" y="142876"/>
                </a:lnTo>
                <a:lnTo>
                  <a:pt x="183004" y="202000"/>
                </a:lnTo>
                <a:lnTo>
                  <a:pt x="142678" y="232244"/>
                </a:lnTo>
                <a:lnTo>
                  <a:pt x="107157" y="184882"/>
                </a:lnTo>
                <a:lnTo>
                  <a:pt x="71636" y="232244"/>
                </a:lnTo>
                <a:lnTo>
                  <a:pt x="31310" y="202000"/>
                </a:lnTo>
                <a:lnTo>
                  <a:pt x="75653" y="14287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ultiply 32"/>
          <p:cNvSpPr/>
          <p:nvPr/>
        </p:nvSpPr>
        <p:spPr>
          <a:xfrm>
            <a:off x="5429160" y="3643200"/>
            <a:ext cx="214560" cy="285840"/>
          </a:xfrm>
          <a:custGeom>
            <a:avLst/>
            <a:gdLst>
              <a:gd name="textAreaLeft" fmla="*/ 31320 w 214560"/>
              <a:gd name="textAreaRight" fmla="*/ 183240 w 214560"/>
              <a:gd name="textAreaTop" fmla="*/ 53280 h 285840"/>
              <a:gd name="textAreaBottom" fmla="*/ 232560 h 285840"/>
            </a:gdLst>
            <a:ahLst/>
            <a:rect l="textAreaLeft" t="textAreaTop" r="textAreaRight" b="textAreaBottom"/>
            <a:pathLst>
              <a:path w="214314" h="285752">
                <a:moveTo>
                  <a:pt x="31310" y="83752"/>
                </a:moveTo>
                <a:lnTo>
                  <a:pt x="71636" y="53508"/>
                </a:lnTo>
                <a:lnTo>
                  <a:pt x="107157" y="100870"/>
                </a:lnTo>
                <a:lnTo>
                  <a:pt x="142678" y="53508"/>
                </a:lnTo>
                <a:lnTo>
                  <a:pt x="183004" y="83752"/>
                </a:lnTo>
                <a:lnTo>
                  <a:pt x="138661" y="142876"/>
                </a:lnTo>
                <a:lnTo>
                  <a:pt x="183004" y="202000"/>
                </a:lnTo>
                <a:lnTo>
                  <a:pt x="142678" y="232244"/>
                </a:lnTo>
                <a:lnTo>
                  <a:pt x="107157" y="184882"/>
                </a:lnTo>
                <a:lnTo>
                  <a:pt x="71636" y="232244"/>
                </a:lnTo>
                <a:lnTo>
                  <a:pt x="31310" y="202000"/>
                </a:lnTo>
                <a:lnTo>
                  <a:pt x="75653" y="14287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is (part 1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78620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78620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547640" y="3141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4714920" y="3714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4714920" y="2286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785960" y="39290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71468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60"/>
          <p:cNvSpPr/>
          <p:nvPr/>
        </p:nvSpPr>
        <p:spPr>
          <a:xfrm flipV="1">
            <a:off x="298764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062160" y="2997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Ventriloqu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87640" y="3213000"/>
            <a:ext cx="172872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is (part 2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8620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78620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1547640" y="3141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4714920" y="3714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4714920" y="2286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500720" y="42926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427640" y="4292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60"/>
          <p:cNvSpPr/>
          <p:nvPr/>
        </p:nvSpPr>
        <p:spPr>
          <a:xfrm flipV="1">
            <a:off x="4356000" y="38602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919240" y="3573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Ventriloqu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700000" y="4005000"/>
            <a:ext cx="1655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could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435640" y="220500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5508720" y="414972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835280" y="227664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763640" y="22766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435640" y="4221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364000" y="2205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35280" y="422100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763640" y="4149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272320" y="3789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37893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48000" y="3141360"/>
            <a:ext cx="180180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4076640"/>
            <a:ext cx="187164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0:30:13Z</dcterms:created>
  <dc:creator>sapark</dc:creator>
  <dc:description/>
  <dc:language>en-US</dc:language>
  <cp:lastModifiedBy>gg2222</cp:lastModifiedBy>
  <dcterms:modified xsi:type="dcterms:W3CDTF">2009-07-04T11:16:19Z</dcterms:modified>
  <cp:revision>2</cp:revision>
  <dc:subject/>
  <dc:title>Whose voice is it anyway?</dc:title>
</cp:coreProperties>
</file>